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79FCF-837F-41D6-B6FA-E4DFFB6E6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8B83F-9DCC-436B-85E8-9E1DA964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7989C-075D-4B61-9C4C-C5528E4F9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BB9BF-73E2-4FBE-A127-3353B3ABA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72ACE-B125-4C08-93FD-C22A467C3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4A5DD-F2B2-4A79-9079-B10BBDD5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273B4-5C05-4060-8EB7-36E979B09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E557C-DCC4-4AE7-A9DF-065CF7F4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8255F-DC95-4E91-83AD-D1AB8C196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8406-0A5E-4D35-9EA2-8FB7704D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78B81-CAD5-4FB2-82BC-7A1B1C8D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EF197-E2A9-4E70-A2B1-F8A53646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CBEB7-86A3-40AB-ABC9-54D3887FA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0FF7A-6397-48F4-B1C2-774D77902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DFFA3-5A35-40FC-96A2-EA3C026F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1BDBE-FC36-446C-A9BD-46F42C9FF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C751B-CB17-4890-B6EC-B42E06483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1B677-8A80-4C67-BEF5-0A680AA07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F07DE-1C59-4D82-9E1B-534A29CB9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B11C5-4AA6-458E-A3F1-4517090D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DED49-26F5-4E01-9AC1-BCE0711F3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8F049-A9CF-46F6-9FA6-C4BCD050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AA8E6-95E3-4B75-A458-D435CEABA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75A84-403E-4346-BBC5-04F66AD6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1706-8ADE-45BB-98D7-27BB9BFB828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BA21-2C7F-47BF-BEAB-D2C731FB4EF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volcanoes.usgs.gov/Products/Pglossary/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Hazards of Volcanic Eruptions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plorers Clu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ent Na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Other Hazard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ource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to Glossary of Volcano Terms,”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U.S. Geological Surve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, September 30, 1999, </a:t>
            </a:r>
            <a:r>
              <a:rPr b="0" lang="en-US" sz="3200" spc="-1" strike="noStrike" u="sng">
                <a:solidFill>
                  <a:srgbClr val="9999ff"/>
                </a:solidFill>
                <a:uFillTx/>
                <a:latin typeface="Arial"/>
                <a:hlinkClick r:id="rId2"/>
              </a:rPr>
              <a:t>http://volcanoes.usgs.gov/Products/Pglossary/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(accessed April 23, 2006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olcanic Hazard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39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phra – pieces of volcanic rock and lava exploded into the 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canic gas – gases released from molten rock into the ai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har – rock, water, and mud that flows down the sides of an exploding volca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canic ash – tiny and hard rock, minerals, and volcanic glass pie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Volcanic Hazard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va – molten rock (magma) below that explodes into the air during a volcanic erup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yroclastic flow – an avalanche of hot rock, gas, and lava flowing quickly down the side of a volcan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0" name="" descr=""/>
          <p:cNvPicPr/>
          <p:nvPr/>
        </p:nvPicPr>
        <p:blipFill>
          <a:blip r:embed="rId1"/>
          <a:stretch/>
        </p:blipFill>
        <p:spPr>
          <a:xfrm>
            <a:off x="1447920" y="1474920"/>
            <a:ext cx="6248160" cy="390816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3657600" y="6094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ph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895480" y="548640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GS photograph by D. Wieprec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3657600" y="6094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lcanic G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990720" y="57150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GS photograph by K. A. McGee on September 19, 199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1447920" y="1665360"/>
            <a:ext cx="6253200" cy="39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3657600" y="6094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h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990720" y="5715000"/>
            <a:ext cx="617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GS photograph by K. A. McGee on September 19, 199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1447920" y="1665360"/>
            <a:ext cx="6253200" cy="39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3657600" y="609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lcanic As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209680" y="5715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GS photograph by D. E. Wieprec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1447920" y="1569960"/>
            <a:ext cx="6253200" cy="39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3657600" y="609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990720" y="5715000"/>
            <a:ext cx="60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GS photograph by J. D. Griggs on November 13, 198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3657600" y="6094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yroclastic f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990720" y="5715000"/>
            <a:ext cx="601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GS photograph by C. Newhall on September 23, 198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1523880" y="1522440"/>
            <a:ext cx="609624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7T16:12:29Z</dcterms:created>
  <dc:creator>Ollie Rivers</dc:creator>
  <dc:description/>
  <dc:language>en-US</dc:language>
  <cp:lastModifiedBy>Daniel O'Mahoney-Schwartz</cp:lastModifiedBy>
  <dcterms:modified xsi:type="dcterms:W3CDTF">2005-02-04T21:39:15Z</dcterms:modified>
  <cp:revision>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741004142</vt:r8>
  </property>
  <property fmtid="{D5CDD505-2E9C-101B-9397-08002B2CF9AE}" pid="3" name="_AuthorEmail">
    <vt:lpwstr>orivers@earthlink.net</vt:lpwstr>
  </property>
  <property fmtid="{D5CDD505-2E9C-101B-9397-08002B2CF9AE}" pid="4" name="_AuthorEmailDisplayName">
    <vt:lpwstr>Ollie Rivers</vt:lpwstr>
  </property>
  <property fmtid="{D5CDD505-2E9C-101B-9397-08002B2CF9AE}" pid="5" name="_EmailSubject">
    <vt:lpwstr>LWC copyedit/review L7P12 rest of files</vt:lpwstr>
  </property>
</Properties>
</file>